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409-729B-4B8D-9511-7CEC009F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01F-9F46-4580-9D12-67D36954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0F7-4EBB-491A-B7F7-9ADEFA70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393-014B-4240-9B82-F92E35EC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B3C-7B00-47A0-824A-41A8FF4E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D5A-1597-4031-BF67-0A7837CA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F04-3B7D-410F-A44E-34B8AC28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C71-16CB-41D2-8749-590FCD7B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DBA-17CC-4164-ADA4-6136B7BD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26B-02AF-4C0E-A5B3-931B45C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1C2-006B-4BB2-8075-467E4E97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DB5-2F9C-4167-83D5-9852AE76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FE054-8362-48BF-86C0-8919D48B5E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9640" y="2160720"/>
            <a:ext cx="810072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L'alimenta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ment est 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 plat e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40000" y="2340000"/>
          <a:ext cx="6688080" cy="4096800"/>
        </p:xfrm>
        <a:graphic>
          <a:graphicData uri="http://schemas.openxmlformats.org/drawingml/2006/table">
            <a:tbl>
              <a:tblPr/>
              <a:tblGrid>
                <a:gridCol w="2230200"/>
                <a:gridCol w="2229120"/>
                <a:gridCol w="222876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 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cou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uv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 / Pas ass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r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pic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ud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id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r/am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087640" y="2411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27640" y="2411280"/>
            <a:ext cx="93672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0360" y="360360"/>
            <a:ext cx="9360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Phras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720" y="1800360"/>
            <a:ext cx="900108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J'ai faim /Je n'ai plus faim / J’ai très fa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J'ai soif / Je n’ai plus soif / J’ai très soi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Qu'est-ce qu'on m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On mange de la pizza. / On ne mange pas de 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u veux du poulet? Oui, j'en veux. / Non, je n'en veux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Je prépare le rep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Je mets la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u restau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9320" cy="4988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Garçon, s’il vous plaî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Je voudra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Je vais prend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Qu’est-ce qu’il y a dan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’addition, s’il vous plaî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4520" y="1768320"/>
            <a:ext cx="4459320" cy="498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e serveur / La serv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Bonjour madame / monsi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Que désirez-vo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vez-vous chois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Et comme 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Ça fait …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Merci, madame / monsi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u revo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60360" y="1979640"/>
            <a:ext cx="79200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539640"/>
            <a:ext cx="8280360" cy="62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es (pré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nge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man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b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ma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b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 / elle / on man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/on bo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ma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buv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ma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bu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mang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boi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endr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oul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pren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v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pren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v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pr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ve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pren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voul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prene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prenn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veu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00000" y="360360"/>
            <a:ext cx="828036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es (pré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ime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é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'a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dét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aim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dét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a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dét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aim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détes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aime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détes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ai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déte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éfére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d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préfè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'ad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préfè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préfè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ad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préfér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ado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préfére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ado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préfèr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ado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20720" y="539640"/>
            <a:ext cx="900108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'Impéra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 n'a que trois personnes: 2ème du singu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ère du plu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ème du plu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 est formé par le pré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 n'a pas de pronoms suj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s verbes en -ER n'utilisent pas le -S au 2ème personne du singuil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 négation suit le schèma sui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e à l'impéra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79640" y="360360"/>
            <a:ext cx="828036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es (impérati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nge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v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ge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endr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ans impérat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n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n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é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ne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l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é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 mange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 buvons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 prenez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20720" y="720720"/>
            <a:ext cx="8820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rticles Parti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617920" y="1739880"/>
            <a:ext cx="5075280" cy="2008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0720" y="3959280"/>
            <a:ext cx="900108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ntion! À la négative = 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poulet / Je ne veux pas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poul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 la pizz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/ Je ne veux pas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 l'eau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/ Je ne veux pas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'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a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frites / Je ne veux pas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fri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720720"/>
            <a:ext cx="864072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rticles parti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ican una cantidad no defin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os verbos que suelen usar los partitivos 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ire, vouloir, prendre, il y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2519280"/>
            <a:ext cx="8280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ésu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720720"/>
            <a:ext cx="900108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ronom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mplace les compliments introduits par DU, DE LA, DE L', DES, 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e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ant le ver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 poulet 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 sal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Non, il n'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720720"/>
            <a:ext cx="900108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ronom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mplace les compliments introduits par DU, DE LA, DE L', DES, 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e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ant le ver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 poulet 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 sal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Non, il n'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360360"/>
            <a:ext cx="90010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quant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900000"/>
            <a:ext cx="9360000" cy="62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s quantités jus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kilo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litre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 bouteill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demi kilo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demi litre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verr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 grammes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 tablette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 cuillèr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s quantités impréci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ucoup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z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u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 beaucoup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 assez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pouvons aussi utiliser les articles partitifs pour indiquer une quantité impré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tion!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utilisons toujours DE après les quantités justes ou après des adverbes de quant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79640" y="720720"/>
            <a:ext cx="81007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s rep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2305080"/>
            <a:ext cx="882036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etit-déjeuner (le matin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ndre le petit-déjeu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déjeuner (midi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éjeu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goûter (l'après-midi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oû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dîner (le soir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î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0720" y="720720"/>
            <a:ext cx="84596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 mén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lat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des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boi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539640"/>
            <a:ext cx="90010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s légum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5000" y="2073240"/>
            <a:ext cx="1371600" cy="987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40000" y="2160720"/>
            <a:ext cx="39607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ar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43040" y="3419640"/>
            <a:ext cx="1057320" cy="104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60720" y="3600360"/>
            <a:ext cx="16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20720" y="4680000"/>
            <a:ext cx="990720" cy="14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60720" y="4859280"/>
            <a:ext cx="162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harocots blan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39640" y="6300720"/>
            <a:ext cx="1305000" cy="80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60720" y="6300720"/>
            <a:ext cx="162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haric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040360" y="2160720"/>
            <a:ext cx="1238040" cy="79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59640" y="2340000"/>
            <a:ext cx="234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etits p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241960" y="3328920"/>
            <a:ext cx="1238040" cy="99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59640" y="3419640"/>
            <a:ext cx="1800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ommes de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232240" y="4680000"/>
            <a:ext cx="1247760" cy="108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0360" y="4859280"/>
            <a:ext cx="19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al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5219640" y="5867280"/>
            <a:ext cx="1123920" cy="115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0360" y="6119640"/>
            <a:ext cx="216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o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0360" y="539640"/>
            <a:ext cx="918036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s frui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01600" y="2160720"/>
            <a:ext cx="1238400" cy="81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00360" y="2160720"/>
            <a:ext cx="2700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bricot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60360" y="3240000"/>
            <a:ext cx="743040" cy="129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00360" y="3780000"/>
            <a:ext cx="180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n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977760" y="4938840"/>
            <a:ext cx="1362240" cy="1361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5219640"/>
            <a:ext cx="144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ban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759280" y="2160720"/>
            <a:ext cx="1114560" cy="1190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199280" y="2340000"/>
            <a:ext cx="2521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e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029280" y="3508200"/>
            <a:ext cx="990720" cy="117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199280" y="3959280"/>
            <a:ext cx="180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f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5759280" y="5219640"/>
            <a:ext cx="1219320" cy="1019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20000" y="5400720"/>
            <a:ext cx="19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me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360360"/>
            <a:ext cx="9180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s fruits (2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79640" y="1979640"/>
            <a:ext cx="1171440" cy="1081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19280" y="2340000"/>
            <a:ext cx="234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o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103400" y="3376440"/>
            <a:ext cx="1057320" cy="11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19280" y="3419640"/>
            <a:ext cx="1800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68560" y="5219640"/>
            <a:ext cx="1171440" cy="87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19280" y="5400720"/>
            <a:ext cx="162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ê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400720" y="1979640"/>
            <a:ext cx="1171440" cy="1314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20000" y="2160720"/>
            <a:ext cx="25207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5592600" y="3600360"/>
            <a:ext cx="12477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20000" y="3780000"/>
            <a:ext cx="1979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o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759280" y="4929120"/>
            <a:ext cx="85752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20000" y="521964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ai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539640"/>
            <a:ext cx="918072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s viand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00000" y="2160720"/>
            <a:ext cx="1800360" cy="1128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79640" y="251928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ôtellette de po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158840" y="36799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79640" y="3973680"/>
            <a:ext cx="270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hamburg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312920" y="5219640"/>
            <a:ext cx="847800" cy="1047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79640" y="5400720"/>
            <a:ext cx="19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jambon 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400720" y="3600360"/>
            <a:ext cx="1766880" cy="108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380360" y="3780000"/>
            <a:ext cx="2160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ou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539640"/>
            <a:ext cx="9180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es produits laitie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2340000"/>
            <a:ext cx="450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r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20720" y="3240000"/>
            <a:ext cx="1620720" cy="106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00360" y="3419640"/>
            <a:ext cx="180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fro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0000" y="4762440"/>
            <a:ext cx="900360" cy="171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340000" y="5219640"/>
            <a:ext cx="19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10160" y="1979640"/>
            <a:ext cx="971640" cy="1454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020000" y="2340000"/>
            <a:ext cx="234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l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80000" y="3962520"/>
            <a:ext cx="933480" cy="1438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0360" y="4500720"/>
            <a:ext cx="1979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yao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 guadalinex</dc:creator>
  <dc:description/>
  <dc:language>en-US</dc:language>
  <cp:lastModifiedBy>Director</cp:lastModifiedBy>
  <dcterms:modified xsi:type="dcterms:W3CDTF">2013-02-20T10:56:08Z</dcterms:modified>
  <cp:revision>8</cp:revision>
  <dc:subject/>
  <dc:title>Diapositiva 1</dc:title>
</cp:coreProperties>
</file>